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428-F230-4794-96E5-B16CA874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A10-DC38-4B09-A734-E25B78DA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A4B-5E90-4AD1-B2CC-4A677EAC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973-1247-4645-94F3-A83420D1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2F99-090A-4D67-8219-DFCA2A0B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A0BA-38E6-4ECA-A9E2-5F0390FE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0176-BBAC-4673-ACA3-35A00E88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0D3B-ED69-44D7-9796-FA88B2B6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379D-205C-46EC-B644-8E5D98E8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D158-3E7B-4840-BD84-7394119B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7934-6B00-4325-9DA0-258051BD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562-CF63-457D-A499-187AFDEA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62CF-2803-4193-9FC2-B749E836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48BA-311D-4DA1-873F-3E85AE9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882B-B786-4BFF-BD5A-0FAEFEF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46F8-AF47-4822-AF12-C071539D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698E-010E-46B1-A565-5AF5909C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3D0-4DDD-49DB-B106-6D79711A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0BE-5CF7-4C88-9862-76F0D564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767-A79B-4068-8E8C-90C0A307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439-6112-4275-82CB-D853B2F0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9A2-ADF9-4E9B-85D3-C4ADC743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7DC-68CF-4C54-9F83-0A94D318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C43-2EB1-4073-9278-3419B97C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2EAE-855F-47A4-ACFC-F46842C89A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691A-3B35-486A-AE7D-CFFBC2E9CB15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ема: «Природные сообщества»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6 класс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Учитель химии и биологии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кв.кат.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алеева Л.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5" descr="i-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a0c7360e064569d2eeacc3df9f3d2cfe"/>
          <p:cNvPicPr/>
          <p:nvPr/>
        </p:nvPicPr>
        <p:blipFill>
          <a:blip r:embed="rId1"/>
          <a:stretch/>
        </p:blipFill>
        <p:spPr>
          <a:xfrm>
            <a:off x="324000" y="174600"/>
            <a:ext cx="77752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5" descr="i-1058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i-1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5" descr="i-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7" descr="i-1527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i-642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050920" y="0"/>
            <a:ext cx="5139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5" descr="i-961"/>
          <p:cNvPicPr/>
          <p:nvPr/>
        </p:nvPicPr>
        <p:blipFill>
          <a:blip r:embed="rId1"/>
          <a:stretch/>
        </p:blipFill>
        <p:spPr>
          <a:xfrm>
            <a:off x="17928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5" descr="i-828"/>
          <p:cNvPicPr/>
          <p:nvPr/>
        </p:nvPicPr>
        <p:blipFill>
          <a:blip r:embed="rId1"/>
          <a:stretch/>
        </p:blipFill>
        <p:spPr>
          <a:xfrm>
            <a:off x="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5" descr="i-1088"/>
          <p:cNvPicPr/>
          <p:nvPr/>
        </p:nvPicPr>
        <p:blipFill>
          <a:blip r:embed="rId1"/>
          <a:stretch/>
        </p:blipFill>
        <p:spPr>
          <a:xfrm>
            <a:off x="0" y="135000"/>
            <a:ext cx="93963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5" descr="i-821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5" descr="i-823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 – сосна, 2 – карась, 3 – черника, 4 – жаворонок, 5 – полевка (мышь), 6 – ряска, 7 – ландыш майский,  8 – дятел, 9 – пижма обыкновенная, 10 – зверобой,  11 – ель обыкновенная,  12 – выдра, 13–  лось, 14 – маслен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1,3,7,8,11,13,14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4,5,9,10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 2,6,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5" descr="i-646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йте схему пищевой цепи, включив в нее следующие организмы: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яц, лиса, травянистое растение, кузнечик, лягушка, волк, змея, ястреб, сова,  мышь, гусеница, кукушка, перепелка, дятел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пи п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- гусеница – кукуш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–кузнечик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ягушка – змея – ястреб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5" descr="i-8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акие утверждения верны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тепь является сообществ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Б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В сообществе все организмы связаны между соб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) Потребителем является берез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) Дождевой червь относится к производител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) Сова – это разрушител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Е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Цепи питания в сообществах образуют сложные сети пит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) Обычно цепи питания состоят из 8 – 10 звенье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7" descr="i-5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i-1086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. 25 изучить, выполнить задание на с.  170, устно ответить на вопросы на стр. 171; подготовить сообщение о взаимодействии организмов в любом сообществе (по желанию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Образовательны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крыть понятие «Природные сообществ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пределить основные компоненты сообщества, сложность их взаимоотношений на примере цепей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еть составлять простые цепи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Развивающи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должить осваивать технологию индивидуализированного  обуче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звивать навыки установления причинно-следственных связей, работы с учебником, извлекая из них полезную информацию,  находить по его рисункам необходимые сведения для выполнения задан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Воспитательны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здать условия для индивидуализированной продуктивной работы каждого учени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тивировать учебную деятельность поэтапным достижением результа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кологические ф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28760" y="2071800"/>
          <a:ext cx="8229600" cy="3355920"/>
        </p:xfrm>
        <a:graphic>
          <a:graphicData uri="http://schemas.openxmlformats.org/drawingml/2006/table">
            <a:tbl>
              <a:tblPr/>
              <a:tblGrid>
                <a:gridCol w="4329000"/>
                <a:gridCol w="390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кологические фактор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неживой природы (абиотические)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А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Б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В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живой природы (биотические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Деятельность человека (антропогенный фактор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i-1068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188640"/>
            <a:ext cx="78040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i-974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i-1059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5" descr="i-14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2:01:08Z</dcterms:created>
  <dc:creator>Роберт</dc:creator>
  <dc:description/>
  <dc:language>en-US</dc:language>
  <cp:lastModifiedBy>Ray</cp:lastModifiedBy>
  <dcterms:modified xsi:type="dcterms:W3CDTF">2013-03-14T08:09:55Z</dcterms:modified>
  <cp:revision>7</cp:revision>
  <dc:subject/>
  <dc:title>Слайд 1</dc:title>
</cp:coreProperties>
</file>